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6A49-5DA7-4DF5-8C7C-33E78A841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activity to demonstrate translations of the circl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is to translating the circle with equatio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its to the right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it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should also be able to write down the equation of a circle given the coordinates of its centre and the length of its rad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416-FAFB-434B-B601-427C9843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9B8-B572-440A-AD9A-83D8E94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1E6-8468-4183-BBC5-A7EA5B48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568-7BCB-4BBE-AE38-1938343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EEE5-28B6-4B44-B68E-8531DE0D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7B0A-3281-41CA-B1A2-BE55D9E4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AB85-6F6B-4700-B4C4-636F8796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1BB6-D2E7-467C-8825-E7072E87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268A-2FFF-453D-B294-2AD7722E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892C-44FA-4E9F-B586-B06810D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4804-F1DF-4E9F-BF82-96C5511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493-239E-4D0F-81F4-CEDD7D49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32D7-D3B0-4BCE-8996-E9A39DB4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9878-4880-442A-9475-6A9CB301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68D7-99A0-431A-B2FE-D2C5C73D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5BFF-00B6-47B8-ABFF-EA8365B9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B8C2-3F85-4203-A05B-541F4EF1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9BA-8EE1-443B-A293-59AE6E1E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4B0-A4F8-43EF-8148-5473807C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4C1-4344-4481-98A0-1428ED38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EF1-311F-4608-B587-66E9ECBC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81B-4D32-424A-827F-ED542255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ADC-E88B-4AED-B6F2-886AE056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06B-A58B-47BA-9CC5-767B9263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01BD-0F46-4C6B-B271-74FBA25DD9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C650-D2D5-4677-807D-3084BDA8B5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2276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2924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164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5164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68360" y="3213000"/>
            <a:ext cx="15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872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84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49360"/>
            <a:ext cx="241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620640"/>
            <a:ext cx="75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170    To build skills   Exercise 2A Q1 to Q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7,Q8 towards exam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645000"/>
            <a:ext cx="1835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raw a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ntric means same cen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68360" y="3645000"/>
            <a:ext cx="18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ording of question is confusing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57336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ing skills. Method same as befo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ore challe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1700280"/>
            <a:ext cx="410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sing skills. Find the radius fir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el the points Centre (a,b) and the Point as (x,y). Then substitute into the general equation to find radi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51640" y="1916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raw axis first. Circle in each quad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5013360"/>
            <a:ext cx="75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171    Exercise 2B   Exam standard questions Q1 to Q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5  and Q6  challe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2064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am Standard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day, 05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8" descr="What_do_you_see_19.jpg"/>
          <p:cNvPicPr/>
          <p:nvPr/>
        </p:nvPicPr>
        <p:blipFill>
          <a:blip r:embed="rId2"/>
          <a:stretch/>
        </p:blipFill>
        <p:spPr>
          <a:xfrm>
            <a:off x="2916360" y="1052640"/>
            <a:ext cx="5568840" cy="501336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274" name="Rectangle 2"/>
          <p:cNvSpPr/>
          <p:nvPr/>
        </p:nvSpPr>
        <p:spPr>
          <a:xfrm>
            <a:off x="539640" y="1773360"/>
            <a:ext cx="1728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 you se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664000" cy="5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356000" y="1700280"/>
            <a:ext cx="2087640" cy="676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164360" y="1700280"/>
            <a:ext cx="1368360" cy="649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68360" y="2647800"/>
            <a:ext cx="2519280" cy="53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995640" y="2637000"/>
            <a:ext cx="2664000" cy="792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7164360" y="2708280"/>
            <a:ext cx="1224000" cy="80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68360" y="4005360"/>
            <a:ext cx="4174920" cy="500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68360" y="4653000"/>
            <a:ext cx="3240000" cy="615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468360" y="5373720"/>
            <a:ext cx="2087640" cy="353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468360" y="5877000"/>
            <a:ext cx="1008000" cy="67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1835280" y="5853240"/>
            <a:ext cx="1728720" cy="79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4140360" y="4849920"/>
            <a:ext cx="2519280" cy="1590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6357960" y="5445000"/>
            <a:ext cx="2786040" cy="44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33336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20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1773360"/>
            <a:ext cx="43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2720" y="1773360"/>
            <a:ext cx="43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2637000"/>
            <a:ext cx="43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2708280"/>
            <a:ext cx="43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98100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iley 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Translating circle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ShockwaveFlash1"/>
          <p:cNvGraphicFramePr/>
          <p:nvPr/>
        </p:nvGraphicFramePr>
        <p:xfrm>
          <a:off x="179280" y="907920"/>
          <a:ext cx="8785440" cy="511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907920"/>
                    <a:ext cx="87854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79280" y="90792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685800" y="14842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distance from (a,b) to (x,y) is given by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(x - a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+ (y - b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826920" y="270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 flipH="1">
            <a:off x="5508360" y="38606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32000" y="2565360"/>
            <a:ext cx="6172200" cy="3202920"/>
            <a:chOff x="1332000" y="2565360"/>
            <a:chExt cx="6172200" cy="3202920"/>
          </a:xfrm>
        </p:grpSpPr>
        <p:grpSp>
          <p:nvGrpSpPr>
            <p:cNvPr id="134" name=""/>
            <p:cNvGrpSpPr/>
            <p:nvPr/>
          </p:nvGrpSpPr>
          <p:grpSpPr>
            <a:xfrm>
              <a:off x="1332000" y="2946240"/>
              <a:ext cx="4038480" cy="2136240"/>
              <a:chOff x="1332000" y="2946240"/>
              <a:chExt cx="4038480" cy="2136240"/>
            </a:xfrm>
          </p:grpSpPr>
          <p:sp>
            <p:nvSpPr>
              <p:cNvPr id="135" name="Line 6"/>
              <p:cNvSpPr/>
              <p:nvPr/>
            </p:nvSpPr>
            <p:spPr>
              <a:xfrm flipV="1">
                <a:off x="2398680" y="2946240"/>
                <a:ext cx="2971800" cy="1828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Text Box 7"/>
              <p:cNvSpPr/>
              <p:nvPr/>
            </p:nvSpPr>
            <p:spPr>
              <a:xfrm>
                <a:off x="1332000" y="4622760"/>
                <a:ext cx="117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omic Sans MS"/>
                  </a:rPr>
                  <a:t>(a , b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Text Box 12"/>
            <p:cNvSpPr/>
            <p:nvPr/>
          </p:nvSpPr>
          <p:spPr>
            <a:xfrm>
              <a:off x="5370480" y="469872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(x , 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398680" y="2565360"/>
              <a:ext cx="5105520" cy="2209680"/>
              <a:chOff x="2398680" y="2565360"/>
              <a:chExt cx="5105520" cy="2209680"/>
            </a:xfrm>
          </p:grpSpPr>
          <p:sp>
            <p:nvSpPr>
              <p:cNvPr id="139" name="Line 5"/>
              <p:cNvSpPr/>
              <p:nvPr/>
            </p:nvSpPr>
            <p:spPr>
              <a:xfrm flipV="1">
                <a:off x="5370480" y="2946240"/>
                <a:ext cx="0" cy="1828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4"/>
              <p:cNvSpPr/>
              <p:nvPr/>
            </p:nvSpPr>
            <p:spPr>
              <a:xfrm>
                <a:off x="2398680" y="4775040"/>
                <a:ext cx="2971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8"/>
              <p:cNvSpPr/>
              <p:nvPr/>
            </p:nvSpPr>
            <p:spPr>
              <a:xfrm>
                <a:off x="5370480" y="25653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omic Sans MS"/>
                  </a:rPr>
                  <a:t>(x , y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Text Box 16"/>
              <p:cNvSpPr/>
              <p:nvPr/>
            </p:nvSpPr>
            <p:spPr>
              <a:xfrm>
                <a:off x="6208560" y="363204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omic Sans MS"/>
                  </a:rPr>
                  <a:t>(y – b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Line 13"/>
            <p:cNvSpPr/>
            <p:nvPr/>
          </p:nvSpPr>
          <p:spPr>
            <a:xfrm flipV="1">
              <a:off x="3998880" y="48510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3465360" y="53085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(x – 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17"/>
          <p:cNvSpPr/>
          <p:nvPr/>
        </p:nvSpPr>
        <p:spPr>
          <a:xfrm>
            <a:off x="468360" y="53006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y Pythag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2843280" y="5950080"/>
            <a:ext cx="3657600" cy="459720"/>
          </a:xfrm>
          <a:prstGeom prst="rect">
            <a:avLst/>
          </a:prstGeom>
          <a:solidFill>
            <a:srgbClr val="171717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(x - a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 - b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 circle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927000"/>
            <a:ext cx="87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Suppose the circle is not centred on the origin but centred on the point C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19400" y="1720800"/>
            <a:ext cx="488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be a point on the circle so that CP =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19400" y="4506840"/>
            <a:ext cx="42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Pythagoras theor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9400" y="26496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vertical distance from C to P is 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19400" y="35784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horizontal distance from C to P is 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16280" y="507060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P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25960" y="5635800"/>
            <a:ext cx="37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o    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324000" y="1914480"/>
            <a:ext cx="3456000" cy="4030560"/>
            <a:chOff x="324000" y="1914480"/>
            <a:chExt cx="3456000" cy="4030560"/>
          </a:xfrm>
        </p:grpSpPr>
        <p:sp>
          <p:nvSpPr>
            <p:cNvPr id="157" name=""/>
            <p:cNvSpPr/>
            <p:nvPr/>
          </p:nvSpPr>
          <p:spPr>
            <a:xfrm>
              <a:off x="324000" y="1914480"/>
              <a:ext cx="3456000" cy="403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4720" y="2093760"/>
              <a:ext cx="3095640" cy="367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6120" y="2143080"/>
              <a:ext cx="0" cy="35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9360" y="5300640"/>
              <a:ext cx="297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5080" y="529596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8840" y="52624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80" y="2055960"/>
              <a:ext cx="2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042920" y="2701800"/>
            <a:ext cx="2095560" cy="20955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2720" y="3711600"/>
            <a:ext cx="75960" cy="76320"/>
          </a:xfrm>
          <a:prstGeom prst="ellipse">
            <a:avLst/>
          </a:prstGeom>
          <a:solidFill>
            <a:srgbClr val="b2ecb2"/>
          </a:solidFill>
          <a:ln w="1908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8520" y="3517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ae2c"/>
                </a:solidFill>
                <a:latin typeface="Arial"/>
              </a:rPr>
              <a:t>C(</a:t>
            </a: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2cae2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2cae2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03480" y="2868480"/>
            <a:ext cx="558720" cy="846360"/>
          </a:xfrm>
          <a:custGeom>
            <a:avLst/>
            <a:gdLst/>
            <a:ahLst/>
            <a:rect l="l" t="t" r="r" b="b"/>
            <a:pathLst>
              <a:path w="385" h="455">
                <a:moveTo>
                  <a:pt x="0" y="455"/>
                </a:moveTo>
                <a:lnTo>
                  <a:pt x="385" y="0"/>
                </a:lnTo>
              </a:path>
            </a:pathLst>
          </a:custGeom>
          <a:noFill/>
          <a:ln w="28440">
            <a:solidFill>
              <a:srgbClr val="2cae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0120" y="29844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8680" y="3759120"/>
            <a:ext cx="538200" cy="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35440" y="3697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2cae2c"/>
                </a:solidFill>
                <a:latin typeface="Arial"/>
                <a:ea typeface="Times New Roman"/>
              </a:rPr>
              <a:t>–</a:t>
            </a:r>
            <a:r>
              <a:rPr b="0" i="1" lang="en-US" sz="2000" spc="-1" strike="noStrike">
                <a:solidFill>
                  <a:srgbClr val="2cae2c"/>
                </a:solidFill>
                <a:latin typeface="Times New Roman"/>
                <a:ea typeface="Times New Roman"/>
              </a:rPr>
              <a:t>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57520" y="2903400"/>
            <a:ext cx="0" cy="85752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48160" y="3160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cae2c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2cae2c"/>
                </a:solidFill>
                <a:latin typeface="Arial"/>
                <a:ea typeface="Times New Roman"/>
              </a:rPr>
              <a:t>–</a:t>
            </a:r>
            <a:r>
              <a:rPr b="0" i="1" lang="en-US" sz="2000" spc="-1" strike="noStrike">
                <a:solidFill>
                  <a:srgbClr val="2cae2c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91640" y="2476440"/>
            <a:ext cx="885960" cy="436680"/>
            <a:chOff x="2591640" y="2476440"/>
            <a:chExt cx="885960" cy="436680"/>
          </a:xfrm>
        </p:grpSpPr>
        <p:sp>
          <p:nvSpPr>
            <p:cNvPr id="174" name=""/>
            <p:cNvSpPr/>
            <p:nvPr/>
          </p:nvSpPr>
          <p:spPr>
            <a:xfrm>
              <a:off x="2591640" y="2476440"/>
              <a:ext cx="8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cae2c"/>
                  </a:solidFill>
                  <a:latin typeface="Arial"/>
                </a:rPr>
                <a:t>P(</a:t>
              </a:r>
              <a:r>
                <a:rPr b="0" i="1" lang="en-US" sz="2000" spc="-1" strike="noStrike">
                  <a:solidFill>
                    <a:srgbClr val="2cae2c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2cae2c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2cae2c"/>
                  </a:solidFill>
                  <a:latin typeface="Times New Roman"/>
                </a:rPr>
                <a:t>y</a:t>
              </a:r>
              <a:r>
                <a:rPr b="0" lang="en-US" sz="2000" spc="-1" strike="noStrike">
                  <a:solidFill>
                    <a:srgbClr val="2cae2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19360" y="2836800"/>
              <a:ext cx="74520" cy="76320"/>
            </a:xfrm>
            <a:prstGeom prst="ellipse">
              <a:avLst/>
            </a:prstGeom>
            <a:solidFill>
              <a:srgbClr val="b2ecb2"/>
            </a:solidFill>
            <a:ln w="19080">
              <a:solidFill>
                <a:srgbClr val="2ca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3440" y="3605040"/>
            <a:ext cx="154080" cy="154080"/>
          </a:xfrm>
          <a:prstGeom prst="rect">
            <a:avLst/>
          </a:prstGeom>
          <a:solidFill>
            <a:srgbClr val="b2ecb2"/>
          </a:solidFill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the centre and the radiu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557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the equation of a circle, we can find the coordinates of its centre and the length of its radius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2781360"/>
            <a:ext cx="671652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2)</a:t>
            </a:r>
            <a:r>
              <a:rPr b="0" lang="en-US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+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+ 7)</a:t>
            </a:r>
            <a:r>
              <a:rPr b="0" lang="en-US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3860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comparing this to the general form of the equation of a circle of radiu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entred on the point 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84480" y="472428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3440" y="522936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 can deduce that for the circle with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97360" y="573408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7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280" y="623736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 centre is at the point (2,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–7) and the radius is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18900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8360" y="191628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-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68360" y="256536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3,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340000" y="256536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68360" y="537372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5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-2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95280" y="335772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-2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219640" y="371628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+6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-1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148360" y="220500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+5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+8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8360" y="587700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5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8360" y="386064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3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076720" y="429264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-6,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932360" y="278136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ntre (-5,-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340000" y="587700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340000" y="378936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020000" y="422100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7164360" y="278136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us =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268280"/>
            <a:ext cx="83534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341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rite the equation of the circle w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13372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e (3, -5) and radius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0" y="27813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quation i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0" y="32846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quation i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+5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944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78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1440" y="1844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=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0"/>
          <p:cNvGrpSpPr/>
          <p:nvPr/>
        </p:nvGrpSpPr>
        <p:grpSpPr>
          <a:xfrm>
            <a:off x="4716360" y="2852640"/>
            <a:ext cx="990720" cy="609840"/>
            <a:chOff x="4716360" y="2852640"/>
            <a:chExt cx="990720" cy="609840"/>
          </a:xfrm>
        </p:grpSpPr>
        <p:sp>
          <p:nvSpPr>
            <p:cNvPr id="226" name="Rectangle 25"/>
            <p:cNvSpPr/>
            <p:nvPr/>
          </p:nvSpPr>
          <p:spPr>
            <a:xfrm>
              <a:off x="4716360" y="2852640"/>
              <a:ext cx="990720" cy="6098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24"/>
            <p:cNvSpPr/>
            <p:nvPr/>
          </p:nvSpPr>
          <p:spPr>
            <a:xfrm>
              <a:off x="4775040" y="2927160"/>
              <a:ext cx="8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0" y="407664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e (7, -3) and radius 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1672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=4 x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16720" y="40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58920" y="3789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364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6000" y="364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0" y="4869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quation i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0" y="5661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quation i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-7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(y+3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2205000"/>
            <a:ext cx="7596000" cy="41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1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uild skills  Comple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2A    Q 1 to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ve Q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7 Q8   (towards exam standard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09-01-05T23:11:13Z</dcterms:modified>
  <cp:revision>15</cp:revision>
  <dc:subject/>
  <dc:title>Higher Circle</dc:title>
</cp:coreProperties>
</file>